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82F4-DFCE-4B01-92EE-A9B10D7917F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0E7F-E7B1-41F4-88B0-1DCA7BF7F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F93F-A2B6-4280-9198-6EB4C5EDB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0C161-1860-450B-B040-5A5E0A91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9AE85-73EA-47DF-8DA3-1F557505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4FC11-4068-4887-A259-54FDF9FC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7C7D1-7400-4F66-9D6A-5C22E4B8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7AC0C-67BF-40E5-BAF6-AF8F5FEB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1E355-81B1-4013-91A1-E052A4A4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C182E-E546-431B-B3C3-4210908A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FAE79-AB0C-41C0-8982-7A8D3991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61C3B-0B5A-4E42-AA23-A6BFB499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582AA-E594-418B-BB70-BC0251E1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57B54-3F99-4E4A-9C62-087BBAD7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EF8F8-46C2-4ED6-B12A-4EAA1443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52680" y="6476760"/>
            <a:ext cx="5562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D45C-255D-4091-A9A9-B72D66AFC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Conditionals and Lo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9000" y="2438280"/>
            <a:ext cx="5486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Softwar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of Progra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AW logo"/>
          <p:cNvPicPr/>
          <p:nvPr/>
        </p:nvPicPr>
        <p:blipFill>
          <a:blip r:embed="rId1"/>
          <a:stretch/>
        </p:blipFill>
        <p:spPr>
          <a:xfrm>
            <a:off x="0" y="6064200"/>
            <a:ext cx="1060560" cy="7938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5181480" y="483696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Lew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Lof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Untitled.png"/>
          <p:cNvPicPr/>
          <p:nvPr/>
        </p:nvPicPr>
        <p:blipFill>
          <a:blip r:embed="rId2"/>
          <a:stretch/>
        </p:blipFill>
        <p:spPr>
          <a:xfrm>
            <a:off x="304920" y="1828800"/>
            <a:ext cx="30477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609480" y="38268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radeReport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switch stat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ads a grade from the user and prints comments according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, categor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a numeric grade (0 to 100)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egory = grade /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That grade is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609480" y="52236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switch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catego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perfect score. Well don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well above average. Excellent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bove average. Nice job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verag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below average. You should see th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instructor to clarify the material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"presented in clas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efaul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ot passing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609480" y="52236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switch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catego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perfect score. Well don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well above average. Excellent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bove average. Nice job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verag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below average. You should see th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instructor to clarify the material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"presented in clas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efaul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ot passing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1785240" y="457200"/>
            <a:ext cx="5730840" cy="1279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eric grade (0 to 100)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at grade is well above average. Excell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37040" y="1500120"/>
            <a:ext cx="5635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ditional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with Loops and Condit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log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1371600" y="21542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nditional Ope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al 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valuates to one of two expressions based on a boolean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syntax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?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expression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expressio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i="1" lang="en-US" sz="28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ue, </a:t>
            </a:r>
            <a:r>
              <a:rPr b="1" i="1" lang="en-US" sz="2800" spc="-1" strike="noStrike">
                <a:solidFill>
                  <a:srgbClr val="008000"/>
                </a:solidFill>
                <a:latin typeface="Courier New"/>
              </a:rPr>
              <a:t>expression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valuated;  if it is false, </a:t>
            </a:r>
            <a:r>
              <a:rPr b="1" i="1" lang="en-US" sz="2800" spc="-1" strike="noStrike">
                <a:solidFill>
                  <a:srgbClr val="008000"/>
                </a:solidFill>
                <a:latin typeface="Courier New"/>
              </a:rPr>
              <a:t>expressio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he entire conditional operator is the value of the selected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nditional Ope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ditional operator is similar to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, except that it is an expression that returns 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ger = ((num1 &gt; num2) ? num1 : num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greater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ssigned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ar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 otherwis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ssigned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a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ditional operator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rn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ause it requires three ope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nditional Ope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s 1, the "Dime" is pri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ything other than 1, then "Dimes" is pri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762120" y="20574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our change is " + count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count == 1) ? "Dime" : "Dimes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304920" y="1066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the following logic in a succinct manner using the conditional oper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615960" y="2332080"/>
            <a:ext cx="810540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val &lt;=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It is not greater than 10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It is greater than 10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304920" y="1066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the following logic in a succinct manner using the conditional oper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615960" y="2332080"/>
            <a:ext cx="810540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val &lt;=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It is not greater than 10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It is greater than 10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1775520" y="4495680"/>
            <a:ext cx="505764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It is"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val &lt;= 10) ? " not" : "")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 greater than 10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237040" y="1500120"/>
            <a:ext cx="5635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ditional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with Loops and Condit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log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1371600" y="268776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Conditionals and Lo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we can fill in some additional details regarding Java conditional and repetitio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6 focuse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witch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ditional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with the aid of conditionals and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log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o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 stat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the following 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statement-lis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statement-li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xecuted once initially, and then the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ment is executed repeatedly until the condition becomes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 of a do Lo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2651040" y="2400480"/>
            <a:ext cx="1041480" cy="1295640"/>
            <a:chOff x="2651040" y="2400480"/>
            <a:chExt cx="1041480" cy="1295640"/>
          </a:xfrm>
        </p:grpSpPr>
        <p:sp>
          <p:nvSpPr>
            <p:cNvPr id="166" name="Text Box 4"/>
            <p:cNvSpPr/>
            <p:nvPr/>
          </p:nvSpPr>
          <p:spPr>
            <a:xfrm>
              <a:off x="2651040" y="2856960"/>
              <a:ext cx="6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Unicode MS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" name="AutoShape 5"/>
            <p:cNvCxnSpPr>
              <a:stCxn id="168" idx="1"/>
              <a:endCxn id="169" idx="1"/>
            </p:cNvCxnSpPr>
            <p:nvPr/>
          </p:nvCxnSpPr>
          <p:spPr>
            <a:xfrm flipV="1" rot="10800000">
              <a:off x="3501000" y="2400120"/>
              <a:ext cx="191520" cy="1296000"/>
            </a:xfrm>
            <a:prstGeom prst="bentConnector3">
              <a:avLst>
                <a:gd name="adj1" fmla="val 219962"/>
              </a:avLst>
            </a:prstGeom>
            <a:ln w="31680">
              <a:solidFill>
                <a:srgbClr val="ff0000"/>
              </a:solidFill>
              <a:miter/>
              <a:headEnd len="med" type="triangle" w="lg"/>
            </a:ln>
          </p:spPr>
        </p:cxnSp>
      </p:grpSp>
      <p:grpSp>
        <p:nvGrpSpPr>
          <p:cNvPr id="170" name="Group 6"/>
          <p:cNvGrpSpPr/>
          <p:nvPr/>
        </p:nvGrpSpPr>
        <p:grpSpPr>
          <a:xfrm>
            <a:off x="3502080" y="2576160"/>
            <a:ext cx="1981080" cy="1614960"/>
            <a:chOff x="3502080" y="2576160"/>
            <a:chExt cx="1981080" cy="1614960"/>
          </a:xfrm>
        </p:grpSpPr>
        <p:sp>
          <p:nvSpPr>
            <p:cNvPr id="169" name="AutoShape 7"/>
            <p:cNvSpPr/>
            <p:nvPr/>
          </p:nvSpPr>
          <p:spPr>
            <a:xfrm>
              <a:off x="3502080" y="3200400"/>
              <a:ext cx="1981080" cy="990720"/>
            </a:xfrm>
            <a:prstGeom prst="diamond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8"/>
            <p:cNvSpPr/>
            <p:nvPr/>
          </p:nvSpPr>
          <p:spPr>
            <a:xfrm>
              <a:off x="3831480" y="3374640"/>
              <a:ext cx="132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cond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evalua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AutoShape 9"/>
            <p:cNvCxnSpPr>
              <a:stCxn id="173" idx="2"/>
              <a:endCxn id="169" idx="0"/>
            </p:cNvCxnSpPr>
            <p:nvPr/>
          </p:nvCxnSpPr>
          <p:spPr>
            <a:xfrm flipH="1">
              <a:off x="4491720" y="2576160"/>
              <a:ext cx="2520" cy="62460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</p:grpSp>
      <p:grpSp>
        <p:nvGrpSpPr>
          <p:cNvPr id="174" name="Group 10"/>
          <p:cNvGrpSpPr/>
          <p:nvPr/>
        </p:nvGrpSpPr>
        <p:grpSpPr>
          <a:xfrm>
            <a:off x="3692520" y="1600200"/>
            <a:ext cx="1600200" cy="990720"/>
            <a:chOff x="3692520" y="1600200"/>
            <a:chExt cx="1600200" cy="990720"/>
          </a:xfrm>
        </p:grpSpPr>
        <p:cxnSp>
          <p:nvCxnSpPr>
            <p:cNvPr id="175" name="AutoShape 11"/>
            <p:cNvCxnSpPr>
              <a:endCxn id="173" idx="0"/>
            </p:cNvCxnSpPr>
            <p:nvPr/>
          </p:nvCxnSpPr>
          <p:spPr>
            <a:xfrm>
              <a:off x="4493880" y="1600200"/>
              <a:ext cx="1080" cy="61056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168" name="Rectangle 12"/>
            <p:cNvSpPr/>
            <p:nvPr/>
          </p:nvSpPr>
          <p:spPr>
            <a:xfrm>
              <a:off x="3692520" y="2210040"/>
              <a:ext cx="1600200" cy="380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3"/>
            <p:cNvSpPr/>
            <p:nvPr/>
          </p:nvSpPr>
          <p:spPr>
            <a:xfrm>
              <a:off x="3804840" y="220932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4"/>
          <p:cNvGrpSpPr/>
          <p:nvPr/>
        </p:nvGrpSpPr>
        <p:grpSpPr>
          <a:xfrm>
            <a:off x="4493880" y="4191120"/>
            <a:ext cx="929160" cy="914760"/>
            <a:chOff x="4493880" y="4191120"/>
            <a:chExt cx="929160" cy="914760"/>
          </a:xfrm>
        </p:grpSpPr>
        <p:cxnSp>
          <p:nvCxnSpPr>
            <p:cNvPr id="177" name="AutoShape 15"/>
            <p:cNvCxnSpPr>
              <a:stCxn id="169" idx="2"/>
            </p:cNvCxnSpPr>
            <p:nvPr/>
          </p:nvCxnSpPr>
          <p:spPr>
            <a:xfrm>
              <a:off x="4493880" y="4191120"/>
              <a:ext cx="1080" cy="9151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178" name="Text Box 16"/>
            <p:cNvSpPr/>
            <p:nvPr/>
          </p:nvSpPr>
          <p:spPr>
            <a:xfrm>
              <a:off x="4695120" y="441900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Unicode MS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Footer Placeholder 17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o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6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dy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executes at leas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everseNumber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211480" y="1964160"/>
            <a:ext cx="475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cou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count &lt; 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609480" y="82404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verseNumbe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do lo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verse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verses the digits of an integer mathematical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, lastDigit, reverse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609480" y="144792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a positive integer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Digit = number %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verse = (reverse * 10) + lastDig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= number /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ber &gt;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at number reversed is " + rever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609480" y="144792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a positive integer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Digit = number %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verse = (reverse * 10) + lastDig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= number /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ber &gt;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at number reversed is " + rever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2610720" y="1298520"/>
            <a:ext cx="4024080" cy="1279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positive integer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28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at number reversed is 6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while and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4"/>
          <p:cNvGrpSpPr/>
          <p:nvPr/>
        </p:nvGrpSpPr>
        <p:grpSpPr>
          <a:xfrm>
            <a:off x="1086120" y="1371600"/>
            <a:ext cx="3265560" cy="4419720"/>
            <a:chOff x="1086120" y="1371600"/>
            <a:chExt cx="3265560" cy="4419720"/>
          </a:xfrm>
        </p:grpSpPr>
        <p:grpSp>
          <p:nvGrpSpPr>
            <p:cNvPr id="193" name="Group 18"/>
            <p:cNvGrpSpPr/>
            <p:nvPr/>
          </p:nvGrpSpPr>
          <p:grpSpPr>
            <a:xfrm>
              <a:off x="1634760" y="3733560"/>
              <a:ext cx="1600200" cy="1295280"/>
              <a:chOff x="1634760" y="3733560"/>
              <a:chExt cx="1600200" cy="1295280"/>
            </a:xfrm>
          </p:grpSpPr>
          <p:grpSp>
            <p:nvGrpSpPr>
              <p:cNvPr id="194" name="Group 19"/>
              <p:cNvGrpSpPr/>
              <p:nvPr/>
            </p:nvGrpSpPr>
            <p:grpSpPr>
              <a:xfrm>
                <a:off x="1634760" y="4647240"/>
                <a:ext cx="1600200" cy="381600"/>
                <a:chOff x="1634760" y="4647240"/>
                <a:chExt cx="1600200" cy="381600"/>
              </a:xfrm>
            </p:grpSpPr>
            <p:sp>
              <p:nvSpPr>
                <p:cNvPr id="195" name="Rectangle 20"/>
                <p:cNvSpPr/>
                <p:nvPr/>
              </p:nvSpPr>
              <p:spPr>
                <a:xfrm>
                  <a:off x="1634760" y="4647960"/>
                  <a:ext cx="1600200" cy="380880"/>
                </a:xfrm>
                <a:prstGeom prst="rect">
                  <a:avLst/>
                </a:prstGeom>
                <a:solidFill>
                  <a:srgbClr val="ff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21"/>
                <p:cNvSpPr/>
                <p:nvPr/>
              </p:nvSpPr>
              <p:spPr>
                <a:xfrm>
                  <a:off x="1747440" y="4647240"/>
                  <a:ext cx="1377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statemen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97" name="AutoShape 22"/>
              <p:cNvCxnSpPr>
                <a:stCxn id="198" idx="2"/>
                <a:endCxn id="195" idx="0"/>
              </p:cNvCxnSpPr>
              <p:nvPr/>
            </p:nvCxnSpPr>
            <p:spPr>
              <a:xfrm>
                <a:off x="2434680" y="3733560"/>
                <a:ext cx="1080" cy="91476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med" type="triangle" w="lg"/>
              </a:ln>
            </p:spPr>
          </p:cxnSp>
          <p:sp>
            <p:nvSpPr>
              <p:cNvPr id="199" name="Text Box 23"/>
              <p:cNvSpPr/>
              <p:nvPr/>
            </p:nvSpPr>
            <p:spPr>
              <a:xfrm>
                <a:off x="2452320" y="3961440"/>
                <a:ext cx="66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 Unicode MS"/>
                  </a:rPr>
                  <a:t>tr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0" name="AutoShape 24"/>
            <p:cNvCxnSpPr>
              <a:stCxn id="195" idx="1"/>
              <a:endCxn id="198" idx="1"/>
            </p:cNvCxnSpPr>
            <p:nvPr/>
          </p:nvCxnSpPr>
          <p:spPr>
            <a:xfrm rot="10800000">
              <a:off x="1405440" y="3199680"/>
              <a:ext cx="229320" cy="1639080"/>
            </a:xfrm>
            <a:prstGeom prst="bentConnector3">
              <a:avLst>
                <a:gd name="adj1" fmla="val 239465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grpSp>
          <p:nvGrpSpPr>
            <p:cNvPr id="201" name="Group 25"/>
            <p:cNvGrpSpPr/>
            <p:nvPr/>
          </p:nvGrpSpPr>
          <p:grpSpPr>
            <a:xfrm>
              <a:off x="2374200" y="3200400"/>
              <a:ext cx="1977480" cy="2590920"/>
              <a:chOff x="2374200" y="3200400"/>
              <a:chExt cx="1977480" cy="2590920"/>
            </a:xfrm>
          </p:grpSpPr>
          <p:cxnSp>
            <p:nvCxnSpPr>
              <p:cNvPr id="202" name="AutoShape 26"/>
              <p:cNvCxnSpPr>
                <a:stCxn id="198" idx="3"/>
              </p:cNvCxnSpPr>
              <p:nvPr/>
            </p:nvCxnSpPr>
            <p:spPr>
              <a:xfrm flipH="1">
                <a:off x="2374200" y="3200400"/>
                <a:ext cx="1013760" cy="2591280"/>
              </a:xfrm>
              <a:prstGeom prst="bentConnector4">
                <a:avLst>
                  <a:gd name="adj1" fmla="val -22557"/>
                  <a:gd name="adj2" fmla="val 83451"/>
                </a:avLst>
              </a:prstGeom>
              <a:ln w="31680">
                <a:solidFill>
                  <a:srgbClr val="ff0000"/>
                </a:solidFill>
                <a:miter/>
                <a:tailEnd len="med" type="triangle" w="lg"/>
              </a:ln>
            </p:spPr>
          </p:cxnSp>
          <p:sp>
            <p:nvSpPr>
              <p:cNvPr id="203" name="Text Box 27"/>
              <p:cNvSpPr/>
              <p:nvPr/>
            </p:nvSpPr>
            <p:spPr>
              <a:xfrm>
                <a:off x="3623760" y="3911040"/>
                <a:ext cx="72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 Unicode MS"/>
                  </a:rPr>
                  <a:t>fal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28"/>
            <p:cNvGrpSpPr/>
            <p:nvPr/>
          </p:nvGrpSpPr>
          <p:grpSpPr>
            <a:xfrm>
              <a:off x="1406160" y="1980720"/>
              <a:ext cx="2057400" cy="1752840"/>
              <a:chOff x="1406160" y="1980720"/>
              <a:chExt cx="2057400" cy="1752840"/>
            </a:xfrm>
          </p:grpSpPr>
          <p:cxnSp>
            <p:nvCxnSpPr>
              <p:cNvPr id="205" name="AutoShape 29"/>
              <p:cNvCxnSpPr>
                <a:endCxn id="198" idx="0"/>
              </p:cNvCxnSpPr>
              <p:nvPr/>
            </p:nvCxnSpPr>
            <p:spPr>
              <a:xfrm>
                <a:off x="2434680" y="1980720"/>
                <a:ext cx="1080" cy="6865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med" type="triangle" w="lg"/>
              </a:ln>
            </p:spPr>
          </p:cxnSp>
          <p:grpSp>
            <p:nvGrpSpPr>
              <p:cNvPr id="206" name="Group 30"/>
              <p:cNvGrpSpPr/>
              <p:nvPr/>
            </p:nvGrpSpPr>
            <p:grpSpPr>
              <a:xfrm>
                <a:off x="1406160" y="2666880"/>
                <a:ext cx="2057400" cy="1066680"/>
                <a:chOff x="1406160" y="2666880"/>
                <a:chExt cx="2057400" cy="1066680"/>
              </a:xfrm>
            </p:grpSpPr>
            <p:sp>
              <p:nvSpPr>
                <p:cNvPr id="198" name="AutoShape 31"/>
                <p:cNvSpPr/>
                <p:nvPr/>
              </p:nvSpPr>
              <p:spPr>
                <a:xfrm>
                  <a:off x="1406160" y="2666880"/>
                  <a:ext cx="2057400" cy="1066680"/>
                </a:xfrm>
                <a:prstGeom prst="diamond">
                  <a:avLst/>
                </a:prstGeom>
                <a:solidFill>
                  <a:srgbClr val="ff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Text Box 32"/>
                <p:cNvSpPr/>
                <p:nvPr/>
              </p:nvSpPr>
              <p:spPr>
                <a:xfrm>
                  <a:off x="1774080" y="2878920"/>
                  <a:ext cx="1323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condi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evaluate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Text Box 33"/>
            <p:cNvSpPr/>
            <p:nvPr/>
          </p:nvSpPr>
          <p:spPr>
            <a:xfrm>
              <a:off x="1296360" y="1371600"/>
              <a:ext cx="23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8000"/>
                  </a:solidFill>
                  <a:uFillTx/>
                  <a:latin typeface="Arial"/>
                </a:rPr>
                <a:t>The while Loo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36"/>
          <p:cNvGrpSpPr/>
          <p:nvPr/>
        </p:nvGrpSpPr>
        <p:grpSpPr>
          <a:xfrm>
            <a:off x="4711680" y="1371600"/>
            <a:ext cx="2837520" cy="4150800"/>
            <a:chOff x="4711680" y="1371600"/>
            <a:chExt cx="2837520" cy="4150800"/>
          </a:xfrm>
        </p:grpSpPr>
        <p:grpSp>
          <p:nvGrpSpPr>
            <p:cNvPr id="210" name="Group 4"/>
            <p:cNvGrpSpPr/>
            <p:nvPr/>
          </p:nvGrpSpPr>
          <p:grpSpPr>
            <a:xfrm>
              <a:off x="4711680" y="2778480"/>
              <a:ext cx="1030320" cy="1333440"/>
              <a:chOff x="4711680" y="2778480"/>
              <a:chExt cx="1030320" cy="1333440"/>
            </a:xfrm>
          </p:grpSpPr>
          <p:sp>
            <p:nvSpPr>
              <p:cNvPr id="211" name="Text Box 5"/>
              <p:cNvSpPr/>
              <p:nvPr/>
            </p:nvSpPr>
            <p:spPr>
              <a:xfrm>
                <a:off x="4711680" y="3273480"/>
                <a:ext cx="66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 Unicode MS"/>
                  </a:rPr>
                  <a:t>tr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" name="AutoShape 6"/>
              <p:cNvCxnSpPr>
                <a:stCxn id="213" idx="1"/>
                <a:endCxn id="214" idx="1"/>
              </p:cNvCxnSpPr>
              <p:nvPr/>
            </p:nvCxnSpPr>
            <p:spPr>
              <a:xfrm flipV="1" rot="10800000">
                <a:off x="5588640" y="2778480"/>
                <a:ext cx="153360" cy="1333800"/>
              </a:xfrm>
              <a:prstGeom prst="bentConnector3">
                <a:avLst>
                  <a:gd name="adj1" fmla="val 249882"/>
                </a:avLst>
              </a:prstGeom>
              <a:ln w="31680">
                <a:solidFill>
                  <a:srgbClr val="ff0000"/>
                </a:solidFill>
                <a:miter/>
                <a:headEnd len="med" type="triangle" w="lg"/>
              </a:ln>
            </p:spPr>
          </p:cxnSp>
        </p:grpSp>
        <p:grpSp>
          <p:nvGrpSpPr>
            <p:cNvPr id="215" name="Group 7"/>
            <p:cNvGrpSpPr/>
            <p:nvPr/>
          </p:nvGrpSpPr>
          <p:grpSpPr>
            <a:xfrm>
              <a:off x="5562360" y="2993760"/>
              <a:ext cx="1981080" cy="1613880"/>
              <a:chOff x="5562360" y="2993760"/>
              <a:chExt cx="1981080" cy="1613880"/>
            </a:xfrm>
          </p:grpSpPr>
          <p:sp>
            <p:nvSpPr>
              <p:cNvPr id="214" name="AutoShape 8"/>
              <p:cNvSpPr/>
              <p:nvPr/>
            </p:nvSpPr>
            <p:spPr>
              <a:xfrm>
                <a:off x="5562360" y="3617280"/>
                <a:ext cx="1981080" cy="990360"/>
              </a:xfrm>
              <a:prstGeom prst="diamond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9"/>
              <p:cNvSpPr/>
              <p:nvPr/>
            </p:nvSpPr>
            <p:spPr>
              <a:xfrm>
                <a:off x="5891760" y="3791160"/>
                <a:ext cx="132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condi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evaluat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7" name="AutoShape 10"/>
              <p:cNvCxnSpPr>
                <a:stCxn id="218" idx="2"/>
                <a:endCxn id="214" idx="0"/>
              </p:cNvCxnSpPr>
              <p:nvPr/>
            </p:nvCxnSpPr>
            <p:spPr>
              <a:xfrm flipH="1">
                <a:off x="6552000" y="2993760"/>
                <a:ext cx="2520" cy="62424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med" type="triangle" w="lg"/>
              </a:ln>
            </p:spPr>
          </p:cxnSp>
        </p:grpSp>
        <p:grpSp>
          <p:nvGrpSpPr>
            <p:cNvPr id="219" name="Group 11"/>
            <p:cNvGrpSpPr/>
            <p:nvPr/>
          </p:nvGrpSpPr>
          <p:grpSpPr>
            <a:xfrm>
              <a:off x="5753160" y="2017080"/>
              <a:ext cx="1600200" cy="990360"/>
              <a:chOff x="5753160" y="2017080"/>
              <a:chExt cx="1600200" cy="990360"/>
            </a:xfrm>
          </p:grpSpPr>
          <p:cxnSp>
            <p:nvCxnSpPr>
              <p:cNvPr id="220" name="AutoShape 12"/>
              <p:cNvCxnSpPr>
                <a:endCxn id="218" idx="0"/>
              </p:cNvCxnSpPr>
              <p:nvPr/>
            </p:nvCxnSpPr>
            <p:spPr>
              <a:xfrm>
                <a:off x="6554520" y="2017080"/>
                <a:ext cx="1080" cy="61020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med" type="triangle" w="lg"/>
              </a:ln>
            </p:spPr>
          </p:cxnSp>
          <p:sp>
            <p:nvSpPr>
              <p:cNvPr id="213" name="Rectangle 13"/>
              <p:cNvSpPr/>
              <p:nvPr/>
            </p:nvSpPr>
            <p:spPr>
              <a:xfrm>
                <a:off x="5753160" y="2626920"/>
                <a:ext cx="1600200" cy="3805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14"/>
              <p:cNvSpPr/>
              <p:nvPr/>
            </p:nvSpPr>
            <p:spPr>
              <a:xfrm>
                <a:off x="5865480" y="2625840"/>
                <a:ext cx="1377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state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5"/>
            <p:cNvGrpSpPr/>
            <p:nvPr/>
          </p:nvGrpSpPr>
          <p:grpSpPr>
            <a:xfrm>
              <a:off x="6519600" y="4608000"/>
              <a:ext cx="727920" cy="914400"/>
              <a:chOff x="6519600" y="4608000"/>
              <a:chExt cx="727920" cy="914400"/>
            </a:xfrm>
          </p:grpSpPr>
          <p:cxnSp>
            <p:nvCxnSpPr>
              <p:cNvPr id="222" name="AutoShape 16"/>
              <p:cNvCxnSpPr>
                <a:stCxn id="214" idx="2"/>
              </p:cNvCxnSpPr>
              <p:nvPr/>
            </p:nvCxnSpPr>
            <p:spPr>
              <a:xfrm>
                <a:off x="6549480" y="4608000"/>
                <a:ext cx="1080" cy="91476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med" type="triangle" w="lg"/>
              </a:ln>
            </p:spPr>
          </p:cxnSp>
          <p:sp>
            <p:nvSpPr>
              <p:cNvPr id="223" name="Text Box 17"/>
              <p:cNvSpPr/>
              <p:nvPr/>
            </p:nvSpPr>
            <p:spPr>
              <a:xfrm>
                <a:off x="6519600" y="4835880"/>
                <a:ext cx="72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 Unicode MS"/>
                  </a:rPr>
                  <a:t>fal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35"/>
            <p:cNvSpPr/>
            <p:nvPr/>
          </p:nvSpPr>
          <p:spPr>
            <a:xfrm>
              <a:off x="5541120" y="1371600"/>
              <a:ext cx="200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8000"/>
                  </a:solidFill>
                  <a:uFillTx/>
                  <a:latin typeface="Arial"/>
                </a:rPr>
                <a:t>The do Loo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Footer Placeholder 3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237040" y="1500120"/>
            <a:ext cx="5635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ditional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with Loops and Condit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log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1371600" y="3246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or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stat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the following 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40600" y="3640680"/>
            <a:ext cx="719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initializa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;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;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increme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stateme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0"/>
          <p:cNvGrpSpPr/>
          <p:nvPr/>
        </p:nvGrpSpPr>
        <p:grpSpPr>
          <a:xfrm>
            <a:off x="974880" y="2116800"/>
            <a:ext cx="3039840" cy="1388520"/>
            <a:chOff x="974880" y="2116800"/>
            <a:chExt cx="3039840" cy="1388520"/>
          </a:xfrm>
        </p:grpSpPr>
        <p:sp>
          <p:nvSpPr>
            <p:cNvPr id="234" name="Text Box 9"/>
            <p:cNvSpPr/>
            <p:nvPr/>
          </p:nvSpPr>
          <p:spPr>
            <a:xfrm>
              <a:off x="974880" y="2116800"/>
              <a:ext cx="3039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The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Courier New"/>
                </a:rPr>
                <a:t>initial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is executed o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before the loop beg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0"/>
            <p:cNvSpPr/>
            <p:nvPr/>
          </p:nvSpPr>
          <p:spPr>
            <a:xfrm>
              <a:off x="2469960" y="3124440"/>
              <a:ext cx="152640" cy="380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21"/>
          <p:cNvGrpSpPr/>
          <p:nvPr/>
        </p:nvGrpSpPr>
        <p:grpSpPr>
          <a:xfrm>
            <a:off x="4359600" y="2116800"/>
            <a:ext cx="3419280" cy="1372680"/>
            <a:chOff x="4359600" y="2116800"/>
            <a:chExt cx="3419280" cy="1372680"/>
          </a:xfrm>
        </p:grpSpPr>
        <p:sp>
          <p:nvSpPr>
            <p:cNvPr id="237" name="Text Box 12"/>
            <p:cNvSpPr/>
            <p:nvPr/>
          </p:nvSpPr>
          <p:spPr>
            <a:xfrm>
              <a:off x="4359600" y="2116800"/>
              <a:ext cx="3419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The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Courier New"/>
                </a:rPr>
                <a:t>statement</a:t>
              </a: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executed until t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condition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 becomes 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3"/>
            <p:cNvSpPr/>
            <p:nvPr/>
          </p:nvSpPr>
          <p:spPr>
            <a:xfrm flipH="1">
              <a:off x="5365800" y="3108600"/>
              <a:ext cx="304560" cy="380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22"/>
          <p:cNvGrpSpPr/>
          <p:nvPr/>
        </p:nvGrpSpPr>
        <p:grpSpPr>
          <a:xfrm>
            <a:off x="3689280" y="4159080"/>
            <a:ext cx="4586400" cy="1328400"/>
            <a:chOff x="3689280" y="4159080"/>
            <a:chExt cx="4586400" cy="1328400"/>
          </a:xfrm>
        </p:grpSpPr>
        <p:sp>
          <p:nvSpPr>
            <p:cNvPr id="240" name="Text Box 15"/>
            <p:cNvSpPr/>
            <p:nvPr/>
          </p:nvSpPr>
          <p:spPr>
            <a:xfrm>
              <a:off x="3689280" y="4478760"/>
              <a:ext cx="4586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The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Courier New"/>
                </a:rPr>
                <a:t>increment</a:t>
              </a: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portion is executed at the end of each it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6"/>
            <p:cNvSpPr/>
            <p:nvPr/>
          </p:nvSpPr>
          <p:spPr>
            <a:xfrm flipV="1">
              <a:off x="6269040" y="4159080"/>
              <a:ext cx="315720" cy="473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Footer Placeholder 1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 of a for lo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32"/>
          <p:cNvGrpSpPr/>
          <p:nvPr/>
        </p:nvGrpSpPr>
        <p:grpSpPr>
          <a:xfrm>
            <a:off x="3314880" y="3506400"/>
            <a:ext cx="1600200" cy="1065600"/>
            <a:chOff x="3314880" y="3506400"/>
            <a:chExt cx="1600200" cy="1065600"/>
          </a:xfrm>
        </p:grpSpPr>
        <p:sp>
          <p:nvSpPr>
            <p:cNvPr id="245" name="Rectangle 5"/>
            <p:cNvSpPr/>
            <p:nvPr/>
          </p:nvSpPr>
          <p:spPr>
            <a:xfrm>
              <a:off x="3314880" y="4191120"/>
              <a:ext cx="1600200" cy="380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6"/>
            <p:cNvSpPr/>
            <p:nvPr/>
          </p:nvSpPr>
          <p:spPr>
            <a:xfrm>
              <a:off x="3427560" y="419040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7" name="AutoShape 7"/>
            <p:cNvCxnSpPr>
              <a:stCxn id="248" idx="2"/>
              <a:endCxn id="245" idx="0"/>
            </p:cNvCxnSpPr>
            <p:nvPr/>
          </p:nvCxnSpPr>
          <p:spPr>
            <a:xfrm flipH="1">
              <a:off x="4112640" y="3506400"/>
              <a:ext cx="2520" cy="6865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249" name="Text Box 8"/>
            <p:cNvSpPr/>
            <p:nvPr/>
          </p:nvSpPr>
          <p:spPr>
            <a:xfrm>
              <a:off x="4102200" y="3580560"/>
              <a:ext cx="6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Unicode MS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0" name="AutoShape 9"/>
          <p:cNvCxnSpPr/>
          <p:nvPr/>
        </p:nvCxnSpPr>
        <p:spPr>
          <a:xfrm rot="10800000">
            <a:off x="3123360" y="3009240"/>
            <a:ext cx="191520" cy="2057760"/>
          </a:xfrm>
          <a:prstGeom prst="bentConnector3">
            <a:avLst>
              <a:gd name="adj1" fmla="val 219962"/>
            </a:avLst>
          </a:prstGeom>
          <a:ln w="31680">
            <a:solidFill>
              <a:srgbClr val="ff0000"/>
            </a:solidFill>
            <a:miter/>
            <a:tailEnd len="med" type="triangle" w="lg"/>
          </a:ln>
        </p:spPr>
      </p:cxnSp>
      <p:grpSp>
        <p:nvGrpSpPr>
          <p:cNvPr id="251" name="Group 31"/>
          <p:cNvGrpSpPr/>
          <p:nvPr/>
        </p:nvGrpSpPr>
        <p:grpSpPr>
          <a:xfrm>
            <a:off x="3124080" y="2195640"/>
            <a:ext cx="1981080" cy="1309320"/>
            <a:chOff x="3124080" y="2195640"/>
            <a:chExt cx="1981080" cy="1309320"/>
          </a:xfrm>
        </p:grpSpPr>
        <p:grpSp>
          <p:nvGrpSpPr>
            <p:cNvPr id="252" name="Group 28"/>
            <p:cNvGrpSpPr/>
            <p:nvPr/>
          </p:nvGrpSpPr>
          <p:grpSpPr>
            <a:xfrm>
              <a:off x="3124080" y="2514600"/>
              <a:ext cx="1981080" cy="990360"/>
              <a:chOff x="3124080" y="2514600"/>
              <a:chExt cx="1981080" cy="990360"/>
            </a:xfrm>
          </p:grpSpPr>
          <p:sp>
            <p:nvSpPr>
              <p:cNvPr id="248" name="AutoShape 12"/>
              <p:cNvSpPr/>
              <p:nvPr/>
            </p:nvSpPr>
            <p:spPr>
              <a:xfrm>
                <a:off x="3124080" y="2514600"/>
                <a:ext cx="1981080" cy="990360"/>
              </a:xfrm>
              <a:prstGeom prst="diamond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3"/>
              <p:cNvSpPr/>
              <p:nvPr/>
            </p:nvSpPr>
            <p:spPr>
              <a:xfrm>
                <a:off x="3453120" y="2688480"/>
                <a:ext cx="132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condi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evaluat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54" name="AutoShape 14"/>
            <p:cNvCxnSpPr>
              <a:stCxn id="255" idx="2"/>
              <a:endCxn id="248" idx="0"/>
            </p:cNvCxnSpPr>
            <p:nvPr/>
          </p:nvCxnSpPr>
          <p:spPr>
            <a:xfrm flipH="1">
              <a:off x="4114440" y="2195640"/>
              <a:ext cx="2160" cy="31968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</p:grpSp>
      <p:grpSp>
        <p:nvGrpSpPr>
          <p:cNvPr id="256" name="Group 34"/>
          <p:cNvGrpSpPr/>
          <p:nvPr/>
        </p:nvGrpSpPr>
        <p:grpSpPr>
          <a:xfrm>
            <a:off x="4077720" y="3009600"/>
            <a:ext cx="2488320" cy="2895840"/>
            <a:chOff x="4077720" y="3009600"/>
            <a:chExt cx="2488320" cy="2895840"/>
          </a:xfrm>
        </p:grpSpPr>
        <p:cxnSp>
          <p:nvCxnSpPr>
            <p:cNvPr id="257" name="AutoShape 16"/>
            <p:cNvCxnSpPr>
              <a:stCxn id="248" idx="3"/>
            </p:cNvCxnSpPr>
            <p:nvPr/>
          </p:nvCxnSpPr>
          <p:spPr>
            <a:xfrm flipH="1">
              <a:off x="4077720" y="3009600"/>
              <a:ext cx="991080" cy="2896200"/>
            </a:xfrm>
            <a:prstGeom prst="bentConnector4">
              <a:avLst>
                <a:gd name="adj1" fmla="val -23074"/>
                <a:gd name="adj2" fmla="val 87444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258" name="Text Box 17"/>
            <p:cNvSpPr/>
            <p:nvPr/>
          </p:nvSpPr>
          <p:spPr>
            <a:xfrm>
              <a:off x="5838120" y="358056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Unicode MS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33"/>
          <p:cNvGrpSpPr/>
          <p:nvPr/>
        </p:nvGrpSpPr>
        <p:grpSpPr>
          <a:xfrm>
            <a:off x="3314880" y="4556160"/>
            <a:ext cx="1600200" cy="701640"/>
            <a:chOff x="3314880" y="4556160"/>
            <a:chExt cx="1600200" cy="701640"/>
          </a:xfrm>
        </p:grpSpPr>
        <p:sp>
          <p:nvSpPr>
            <p:cNvPr id="260" name="Rectangle 20"/>
            <p:cNvSpPr/>
            <p:nvPr/>
          </p:nvSpPr>
          <p:spPr>
            <a:xfrm>
              <a:off x="3314880" y="4876920"/>
              <a:ext cx="1600200" cy="380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21"/>
            <p:cNvSpPr/>
            <p:nvPr/>
          </p:nvSpPr>
          <p:spPr>
            <a:xfrm>
              <a:off x="3432600" y="4876200"/>
              <a:ext cx="136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ncr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2" name="AutoShape 22"/>
            <p:cNvCxnSpPr>
              <a:stCxn id="246" idx="2"/>
              <a:endCxn id="261" idx="0"/>
            </p:cNvCxnSpPr>
            <p:nvPr/>
          </p:nvCxnSpPr>
          <p:spPr>
            <a:xfrm>
              <a:off x="4115520" y="4556160"/>
              <a:ext cx="1080" cy="31968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</p:grpSp>
      <p:grpSp>
        <p:nvGrpSpPr>
          <p:cNvPr id="263" name="Group 30"/>
          <p:cNvGrpSpPr/>
          <p:nvPr/>
        </p:nvGrpSpPr>
        <p:grpSpPr>
          <a:xfrm>
            <a:off x="3300120" y="1295280"/>
            <a:ext cx="1631520" cy="914400"/>
            <a:chOff x="3300120" y="1295280"/>
            <a:chExt cx="1631520" cy="914400"/>
          </a:xfrm>
        </p:grpSpPr>
        <p:grpSp>
          <p:nvGrpSpPr>
            <p:cNvPr id="264" name="Group 29"/>
            <p:cNvGrpSpPr/>
            <p:nvPr/>
          </p:nvGrpSpPr>
          <p:grpSpPr>
            <a:xfrm>
              <a:off x="3300120" y="1828080"/>
              <a:ext cx="1631520" cy="381600"/>
              <a:chOff x="3300120" y="1828080"/>
              <a:chExt cx="1631520" cy="381600"/>
            </a:xfrm>
          </p:grpSpPr>
          <p:sp>
            <p:nvSpPr>
              <p:cNvPr id="265" name="Rectangle 25"/>
              <p:cNvSpPr/>
              <p:nvPr/>
            </p:nvSpPr>
            <p:spPr>
              <a:xfrm>
                <a:off x="3314880" y="1828800"/>
                <a:ext cx="1600200" cy="3808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26"/>
              <p:cNvSpPr/>
              <p:nvPr/>
            </p:nvSpPr>
            <p:spPr>
              <a:xfrm>
                <a:off x="3300120" y="1828080"/>
                <a:ext cx="16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initializ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66" name="AutoShape 27"/>
            <p:cNvCxnSpPr>
              <a:endCxn id="255" idx="0"/>
            </p:cNvCxnSpPr>
            <p:nvPr/>
          </p:nvCxnSpPr>
          <p:spPr>
            <a:xfrm>
              <a:off x="4114800" y="1295280"/>
              <a:ext cx="1080" cy="53424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</p:grpSp>
      <p:sp>
        <p:nvSpPr>
          <p:cNvPr id="267" name="Footer Placeholder 2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237040" y="1500120"/>
            <a:ext cx="5635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ditional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with Loops and Condit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log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1371600" y="15573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or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 is functionally equivalent to the follow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487960" y="2559240"/>
            <a:ext cx="365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initializa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state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incre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or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count=1; count &lt;= 5; count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cou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itialization section can be used to declare a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, the condition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 is tested prior to executing the loop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 body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 will execute zero or more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or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rement section can perform any calcu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num=100; num &gt; 0; num -=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nu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is well suited for executing statements a specific number of times that can be calculated or determined in ad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ples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s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609480" y="60948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ultipl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for lo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ulti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multiples of a user-specified number up to a use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pecified lim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_LINE = 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limit, mult, count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a positive value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609480" y="105264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an upper limit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mit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multiples of " + value + " between 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+ " and " + limit + " (inclusive) are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ult = value; mult &lt;= limit; mult +=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mult + "\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a specific number of values per line of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count % PER_LINE =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609480" y="105264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an upper limit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mit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multiples of " + value + " between 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+ " and " + limit + " (inclusive) are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ult = value; mult &lt;= limit; mult +=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mult + "\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a specific number of values per line of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count % PER_LINE =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1099800" y="838080"/>
            <a:ext cx="6828120" cy="468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positive value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upper limit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ultiples of 7 between 7 and 400 (inclusive) 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6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8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9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9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0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1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1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3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4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5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6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6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7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8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8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0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1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2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3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3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4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5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5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6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7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8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8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9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0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0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2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2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3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4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5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5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6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7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7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8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9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609480" y="6094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ar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nested for loop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a triangle shape using asterisk (star) charac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_ROWS =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w = 1; row &lt;= MAX_ROWS; row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 = 1; star &lt;= row; star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*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609480" y="6094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ar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nested for loop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a triangle shape using asterisk (star) charac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_ROWS =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w = 1; row &lt;= MAX_ROWS; row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 = 1; star &lt;= row; star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*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5"/>
          <p:cNvSpPr/>
          <p:nvPr/>
        </p:nvSpPr>
        <p:spPr>
          <a:xfrm>
            <a:off x="3436200" y="517680"/>
            <a:ext cx="1585800" cy="3226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5"/>
          <p:cNvSpPr/>
          <p:nvPr/>
        </p:nvSpPr>
        <p:spPr>
          <a:xfrm>
            <a:off x="304920" y="1066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code fragment that rolls a die 100 times and counts the number of times a 3 comes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304920" y="1066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code fragment that rolls a die 100 times and counts the number of times a 3 comes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6"/>
          <p:cNvSpPr/>
          <p:nvPr/>
        </p:nvSpPr>
        <p:spPr>
          <a:xfrm>
            <a:off x="1404360" y="2565360"/>
            <a:ext cx="639864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 die = new Di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ount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num=1; num &lt;= 100; num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die.roll() ==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tem.out.println (cou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witch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witch stat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s another way to decide which statement to execute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evaluates an expression, then attempts to match the result to one of several possi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ase contains a value and a list o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low of control transfers to statement associated with the first case value that m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or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xpression in the header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 is 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initialization is left out, no initialization is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ondition is left out, it is always considered to be true, and therefore creates an infinit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increment is left out, no increment operation is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-each Lo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an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 simplifies the repetitive processing of items in an it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suppo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k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&lt;Book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loop will print each 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Book myBook : book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myBook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version of a for loop is often calle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-each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-each Lo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-each loop can be used on any object that implement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eliminates the need to retrieve an iterator and call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asN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explici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lso will be helpful when processing arrays, which are discussed in Chap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304920" y="106668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for-each loop that prints all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in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&lt;Student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o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304920" y="106668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for-each loop that prints all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in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&lt;Student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o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1511640" y="2870280"/>
            <a:ext cx="6032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Student student : ro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stude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2237040" y="1500120"/>
            <a:ext cx="5635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ditional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with Loops and Condit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log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"/>
          <p:cNvSpPr/>
          <p:nvPr/>
        </p:nvSpPr>
        <p:spPr>
          <a:xfrm>
            <a:off x="1371600" y="37893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ing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s and loops enhance our ability to generate interesting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Bullseye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Bullseye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es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esPanel.jav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609480" y="60948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ullsey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loops to dra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sey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frame of the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Bullsey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seye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seye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609480" y="60948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ullsey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loops to dra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sey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frame of the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Bullsey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seye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seye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2286000" y="380880"/>
            <a:ext cx="4419720" cy="4648320"/>
            <a:chOff x="2286000" y="380880"/>
            <a:chExt cx="4419720" cy="4648320"/>
          </a:xfrm>
        </p:grpSpPr>
        <p:sp>
          <p:nvSpPr>
            <p:cNvPr id="325" name="TextBox 5"/>
            <p:cNvSpPr/>
            <p:nvPr/>
          </p:nvSpPr>
          <p:spPr>
            <a:xfrm>
              <a:off x="2286000" y="380880"/>
              <a:ext cx="4419720" cy="4648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Picture 4" descr="Bullseye.png"/>
            <p:cNvPicPr/>
            <p:nvPr/>
          </p:nvPicPr>
          <p:blipFill>
            <a:blip r:embed="rId1"/>
            <a:stretch/>
          </p:blipFill>
          <p:spPr>
            <a:xfrm>
              <a:off x="2590560" y="685440"/>
              <a:ext cx="3810240" cy="4089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609480" y="60948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ullseyePanel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conditionals and loops to guide draw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Pan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seye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_WIDTH = 300, NUM_RINGS = 5, RING_WIDTH = 2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e bullseye pan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seyePanel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cya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300,3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witch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ral syntax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65600" y="2055960"/>
            <a:ext cx="3381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 (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expr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value1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statement-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value2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statement-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value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statement-lis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2"/>
          <p:cNvGrpSpPr/>
          <p:nvPr/>
        </p:nvGrpSpPr>
        <p:grpSpPr>
          <a:xfrm>
            <a:off x="1008720" y="2039400"/>
            <a:ext cx="1810800" cy="1923480"/>
            <a:chOff x="1008720" y="2039400"/>
            <a:chExt cx="1810800" cy="1923480"/>
          </a:xfrm>
        </p:grpSpPr>
        <p:sp>
          <p:nvSpPr>
            <p:cNvPr id="107" name="Text Box 6"/>
            <p:cNvSpPr/>
            <p:nvPr/>
          </p:nvSpPr>
          <p:spPr>
            <a:xfrm>
              <a:off x="1008720" y="2039400"/>
              <a:ext cx="12978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wit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reserv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7"/>
            <p:cNvSpPr/>
            <p:nvPr/>
          </p:nvSpPr>
          <p:spPr>
            <a:xfrm>
              <a:off x="2057400" y="2819520"/>
              <a:ext cx="76212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 flipV="1">
              <a:off x="2057400" y="2514240"/>
              <a:ext cx="685800" cy="3049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9"/>
          <p:cNvGrpSpPr/>
          <p:nvPr/>
        </p:nvGrpSpPr>
        <p:grpSpPr>
          <a:xfrm>
            <a:off x="6543360" y="3733560"/>
            <a:ext cx="2323440" cy="1770120"/>
            <a:chOff x="6543360" y="3733560"/>
            <a:chExt cx="2323440" cy="1770120"/>
          </a:xfrm>
        </p:grpSpPr>
        <p:sp>
          <p:nvSpPr>
            <p:cNvPr id="111" name="Text Box 10"/>
            <p:cNvSpPr/>
            <p:nvPr/>
          </p:nvSpPr>
          <p:spPr>
            <a:xfrm>
              <a:off x="6543360" y="4190040"/>
              <a:ext cx="2323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If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expres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matches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value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control jum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to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AutoShape 11"/>
            <p:cNvCxnSpPr>
              <a:stCxn id="111" idx="0"/>
            </p:cNvCxnSpPr>
            <p:nvPr/>
          </p:nvCxnSpPr>
          <p:spPr>
            <a:xfrm flipV="1" rot="16200000">
              <a:off x="6796440" y="3489480"/>
              <a:ext cx="457920" cy="945360"/>
            </a:xfrm>
            <a:prstGeom prst="bentConnector2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</p:grpSp>
      <p:sp>
        <p:nvSpPr>
          <p:cNvPr id="113" name="Footer Placeholder 12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609480" y="76320"/>
            <a:ext cx="7910640" cy="66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aints a bullseye targ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Component 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sup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 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0, y = 0, diameter = MAX_WID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wh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 = 0; count &lt; NUM_RINGS; count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age.getColor() == Color.black)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ternate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wh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bl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x, y, diameter, diame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 -= (2 * RING_WID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RING_WID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 += RING_WID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 the red bullseye in the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r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x, y, diameter, diame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5"/>
          <p:cNvSpPr/>
          <p:nvPr/>
        </p:nvSpPr>
        <p:spPr>
          <a:xfrm>
            <a:off x="609480" y="60948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ox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loops to dra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frame of the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Boxe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es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es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609480" y="60948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ox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loops to dra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frame of the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Boxe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es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es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7"/>
          <p:cNvGrpSpPr/>
          <p:nvPr/>
        </p:nvGrpSpPr>
        <p:grpSpPr>
          <a:xfrm>
            <a:off x="1905120" y="457200"/>
            <a:ext cx="5486400" cy="4572000"/>
            <a:chOff x="1905120" y="457200"/>
            <a:chExt cx="5486400" cy="4572000"/>
          </a:xfrm>
        </p:grpSpPr>
        <p:sp>
          <p:nvSpPr>
            <p:cNvPr id="336" name="TextBox 5"/>
            <p:cNvSpPr/>
            <p:nvPr/>
          </p:nvSpPr>
          <p:spPr>
            <a:xfrm>
              <a:off x="1905120" y="457200"/>
              <a:ext cx="5486400" cy="457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Picture 6" descr="Boxes1.png"/>
            <p:cNvPicPr/>
            <p:nvPr/>
          </p:nvPicPr>
          <p:blipFill>
            <a:blip r:embed="rId1"/>
            <a:stretch/>
          </p:blipFill>
          <p:spPr>
            <a:xfrm>
              <a:off x="2133720" y="706320"/>
              <a:ext cx="5054760" cy="4089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5"/>
          <p:cNvSpPr/>
          <p:nvPr/>
        </p:nvSpPr>
        <p:spPr>
          <a:xfrm>
            <a:off x="609480" y="152280"/>
            <a:ext cx="7910640" cy="624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oxesPanel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conditionals and loops to guide draw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Pan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Rand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es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_BOXES = 50, THICKNESS = 5, MAX_SIDE = 5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_X = 350, MAX_Y = 25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 gen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e drawing pan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esPanel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erator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bl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400, 3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5"/>
          <p:cNvSpPr/>
          <p:nvPr/>
        </p:nvSpPr>
        <p:spPr>
          <a:xfrm>
            <a:off x="609480" y="838080"/>
            <a:ext cx="7910640" cy="475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aints boxes of random width and height in a random lo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Narrow or short boxes are highlighted with a fill co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Component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sup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 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, y, width, heigh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 = 0; count &lt; NUM_BOXES; count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generator.nextInt(MAX_X)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generator.nextInt(MAX_Y)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 = generator.nextInt(MAX_SIDE)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 = generator.nextInt(MAX_SIDE)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609480" y="838080"/>
            <a:ext cx="7910640" cy="475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idth &lt;= THICKNESS)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 for narrow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yellow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Rect (x, y, width, heigh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height &lt;= THICKNESS)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 for shor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Rect (x, y, width, heigh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wh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Rect (x, y, width, heigh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2237040" y="1500120"/>
            <a:ext cx="5635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ditional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with Loops and Condit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log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1371600" y="43592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log Bo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alog 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window that appears on top of any currently active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y be 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y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 an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he user to ent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a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alog box usually has a specific, solitary purpose, and the user interaction with it is br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log Bo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provides methods that simplify the creation of some types of dialog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Odd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dialog boxes for choosing colors and files are covered in 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"/>
          <p:cNvSpPr/>
          <p:nvPr/>
        </p:nvSpPr>
        <p:spPr>
          <a:xfrm>
            <a:off x="609480" y="90000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EvenOdd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he JOptionPane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OptionPan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venO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termines if the value input by the user is even or od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Uses multiple dialog boxes for user intera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umStr,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, aga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witch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eak stat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sed as the last statement in each case's statement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causes control to transfer to the end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is not used, the flow of control will continue into the next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this may be appropriate, but often we want to execute only the statements associated with on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609480" y="144468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Str = JOptionPane.showInputDialog ("Enter an integer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= Integer.parseInt(numSt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"That number is " + ((num%2 == 0) ? "even" : "odd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OptionPane.showMessageDialog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resul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ain = JOptionPane.showConfirmDialog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"Do Another?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again == JOptionPane.YES_OP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609480" y="144468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Str = JOptionPane.showInputDialog ("Enter an integer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= Integer.parseInt(numSt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"That number is " + ((num%2 == 0) ? "even" : "odd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OptionPane.showMessageDialog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resul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ain = JOptionPane.showConfirmDialog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"Do Another?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again == JOptionPane.YES_OP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2362320" y="685800"/>
            <a:ext cx="4876560" cy="2362320"/>
            <a:chOff x="2362320" y="685800"/>
            <a:chExt cx="4876560" cy="2362320"/>
          </a:xfrm>
        </p:grpSpPr>
        <p:sp>
          <p:nvSpPr>
            <p:cNvPr id="361" name="TextBox 5"/>
            <p:cNvSpPr/>
            <p:nvPr/>
          </p:nvSpPr>
          <p:spPr>
            <a:xfrm>
              <a:off x="2362320" y="685800"/>
              <a:ext cx="4876560" cy="236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" name="Picture 6" descr="EvenOdd1.png"/>
            <p:cNvPicPr/>
            <p:nvPr/>
          </p:nvPicPr>
          <p:blipFill>
            <a:blip r:embed="rId1"/>
            <a:stretch/>
          </p:blipFill>
          <p:spPr>
            <a:xfrm>
              <a:off x="2545560" y="909360"/>
              <a:ext cx="4510080" cy="191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3" name="Group 16"/>
          <p:cNvGrpSpPr/>
          <p:nvPr/>
        </p:nvGrpSpPr>
        <p:grpSpPr>
          <a:xfrm>
            <a:off x="533520" y="3505320"/>
            <a:ext cx="3504960" cy="2286000"/>
            <a:chOff x="533520" y="3505320"/>
            <a:chExt cx="3504960" cy="2286000"/>
          </a:xfrm>
        </p:grpSpPr>
        <p:sp>
          <p:nvSpPr>
            <p:cNvPr id="364" name="TextBox 5"/>
            <p:cNvSpPr/>
            <p:nvPr/>
          </p:nvSpPr>
          <p:spPr>
            <a:xfrm>
              <a:off x="533520" y="3505320"/>
              <a:ext cx="3504960" cy="2286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5" name="Picture 14" descr="EvenOdd2.png"/>
            <p:cNvPicPr/>
            <p:nvPr/>
          </p:nvPicPr>
          <p:blipFill>
            <a:blip r:embed="rId2"/>
            <a:stretch/>
          </p:blipFill>
          <p:spPr>
            <a:xfrm>
              <a:off x="768240" y="3706920"/>
              <a:ext cx="3035160" cy="188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6" name="Group 18"/>
          <p:cNvGrpSpPr/>
          <p:nvPr/>
        </p:nvGrpSpPr>
        <p:grpSpPr>
          <a:xfrm>
            <a:off x="4419720" y="3429000"/>
            <a:ext cx="4190760" cy="2362320"/>
            <a:chOff x="4419720" y="3429000"/>
            <a:chExt cx="4190760" cy="2362320"/>
          </a:xfrm>
        </p:grpSpPr>
        <p:sp>
          <p:nvSpPr>
            <p:cNvPr id="367" name="TextBox 5"/>
            <p:cNvSpPr/>
            <p:nvPr/>
          </p:nvSpPr>
          <p:spPr>
            <a:xfrm>
              <a:off x="4419720" y="3429000"/>
              <a:ext cx="4190760" cy="236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Picture 17" descr="EvenOdd3.png"/>
            <p:cNvPicPr/>
            <p:nvPr/>
          </p:nvPicPr>
          <p:blipFill>
            <a:blip r:embed="rId3"/>
            <a:stretch/>
          </p:blipFill>
          <p:spPr>
            <a:xfrm>
              <a:off x="4623480" y="3616560"/>
              <a:ext cx="3782880" cy="1986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6 focu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witch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ditional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with the aid of conditionals and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log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witch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973600" y="1903320"/>
            <a:ext cx="246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 (op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'A'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ount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'B'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Count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'C'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Count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 of a switch stat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witch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can have an option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fault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fault case has no associated value and simply uses the reserved wor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default case is present, control will transfer to it if no other case value m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is no default case, and no other value matches, control falls through to the statement after the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witch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ype of a switch expression must be integers, characters, or enumerated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of Java 7, a switch can also be used with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not use a switch with floating point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licit boolean condition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is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not perform relational checks with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eReport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34:53Z</dcterms:created>
  <dc:creator>usnidem</dc:creator>
  <dc:description/>
  <dc:language>en-US</dc:language>
  <cp:lastModifiedBy>Noreen Elliott</cp:lastModifiedBy>
  <dcterms:modified xsi:type="dcterms:W3CDTF">2013-08-12T20:18:15Z</dcterms:modified>
  <cp:revision>22</cp:revision>
  <dc:subject/>
  <dc:title>Chapter #, Title</dc:title>
</cp:coreProperties>
</file>